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13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9.gif" ContentType="image/gi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AD0E-8323-447A-90AC-AC4A2509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B39-7220-4C8C-84C7-BC3ED622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8A24-8D95-49E5-AFFA-9E712A9F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78F7-EA9B-4E1B-90B2-21BBDE6B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D144-C0C8-4553-8335-80BF976C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A544-B88F-4F64-B67C-D2304293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358E-F8E3-4E22-B9AD-F7E457E9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4A5E-970A-40A9-8BE4-C5FFDBE1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3D19-A9D7-4358-98CA-7F46C4F5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E373-36B8-445B-86F0-2570DC64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8044-AAD7-4334-9152-DA7E9189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E72-A991-4930-A895-43BB2B5E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C719-FE96-489E-ABD5-A24CE7FC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0C4B-D858-440C-A7BF-AB244C02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C4A3-C330-41A9-9F86-BE11AD03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9099-D71E-43BA-B1AE-55DBDFE8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BC09-9EA8-4056-9177-E88E382E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5BE-16D9-441D-92FF-312BEC74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8BA3-330E-4B18-A402-B42219A4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A6D-31FC-4E43-A39C-13057E43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F46-ADB8-42FB-9350-AFE42008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59A-512C-4E72-B688-72F81FB5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D27-215D-4185-8B96-F9B87190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1A4C-6EB0-440D-979B-3A423B83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F0B9-A737-4604-AAD6-8BD956F760D8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A962-E428-4833-8DD6-C373F710F65F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0E2C-FEED-45AE-A563-BDB482D2C0AD}" type="datetime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1D88-7469-4AB8-81B6-D35207935F65}" type="slidenum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interest.com/pin/create/button/?url=http://hdwallpaper2013.com/flower/flower-spring-2013-hd-wallpaper.html/attachment/flower-spring-2013-hd-wallpaper&amp;media=http://hdwallpaper2013.com/wp-content/uploads/2013/02/Flower-Spring-2013-HD-Wallpaper.jpg&amp;description=Flower%20Spring%202013%20HD%20Wallpaper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5132" descr="Flower Spring 2013 HD Wall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3733920"/>
            <a:ext cx="3809880" cy="21398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5129"/>
          <p:cNvSpPr/>
          <p:nvPr/>
        </p:nvSpPr>
        <p:spPr>
          <a:xfrm>
            <a:off x="1600200" y="1719360"/>
            <a:ext cx="59436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36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pring in China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581280" y="7621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4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37893"/>
          <p:cNvSpPr/>
          <p:nvPr/>
        </p:nvSpPr>
        <p:spPr>
          <a:xfrm>
            <a:off x="1219320" y="1447920"/>
            <a:ext cx="769608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翻译下列句子，每空一词。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天气不是太热也不太冷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weather is not ____ ____ ____ too cold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切看起来都是新鲜的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rything _____ 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加拿大的春天什么样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_____ spring _____ in Canada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们下周要去摘草莓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are going to ______ ____________ next week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文本框 37896"/>
          <p:cNvSpPr/>
          <p:nvPr/>
        </p:nvSpPr>
        <p:spPr>
          <a:xfrm>
            <a:off x="4862520" y="25909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t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文本框 37898"/>
          <p:cNvSpPr/>
          <p:nvPr/>
        </p:nvSpPr>
        <p:spPr>
          <a:xfrm>
            <a:off x="3956040" y="358128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resh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矩形 37905"/>
          <p:cNvSpPr/>
          <p:nvPr/>
        </p:nvSpPr>
        <p:spPr>
          <a:xfrm>
            <a:off x="4176720" y="2590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o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矩形 37906"/>
          <p:cNvSpPr/>
          <p:nvPr/>
        </p:nvSpPr>
        <p:spPr>
          <a:xfrm>
            <a:off x="3100320" y="358128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ook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矩形 37907"/>
          <p:cNvSpPr/>
          <p:nvPr/>
        </p:nvSpPr>
        <p:spPr>
          <a:xfrm>
            <a:off x="2666880" y="457200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文本框 37908"/>
          <p:cNvSpPr/>
          <p:nvPr/>
        </p:nvSpPr>
        <p:spPr>
          <a:xfrm>
            <a:off x="4295880" y="4572000"/>
            <a:ext cx="7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k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矩形 37909"/>
          <p:cNvSpPr/>
          <p:nvPr/>
        </p:nvSpPr>
        <p:spPr>
          <a:xfrm>
            <a:off x="3886200" y="550692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ick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矩形 37911"/>
          <p:cNvSpPr/>
          <p:nvPr/>
        </p:nvSpPr>
        <p:spPr>
          <a:xfrm>
            <a:off x="4800600" y="550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awberrie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文本框 37912"/>
          <p:cNvSpPr/>
          <p:nvPr/>
        </p:nvSpPr>
        <p:spPr>
          <a:xfrm>
            <a:off x="5548320" y="259092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6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128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26" name="文本框 33897"/>
          <p:cNvSpPr/>
          <p:nvPr/>
        </p:nvSpPr>
        <p:spPr>
          <a:xfrm>
            <a:off x="838080" y="2851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们那里的春天是什么样子的呢？你喜欢在春天做什么？请写出来和大家探讨一下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文本框 50183"/>
          <p:cNvSpPr/>
          <p:nvPr/>
        </p:nvSpPr>
        <p:spPr>
          <a:xfrm>
            <a:off x="1028880" y="271152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It never rains but it pours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不鸣则已，一鸣惊人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28" name="图片 50186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50188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510720" y="167652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矩形 13325"/>
          <p:cNvSpPr/>
          <p:nvPr/>
        </p:nvSpPr>
        <p:spPr>
          <a:xfrm>
            <a:off x="1546200" y="2636280"/>
            <a:ext cx="622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’s the weather like in spring in China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can you do in spring?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7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6147"/>
          <p:cNvSpPr/>
          <p:nvPr/>
        </p:nvSpPr>
        <p:spPr>
          <a:xfrm>
            <a:off x="1676520" y="54864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awberr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矩形 6150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图片 6157" descr="u=3406090061,2693772619&amp;fm=23&amp;gp=0"/>
          <p:cNvPicPr/>
          <p:nvPr/>
        </p:nvPicPr>
        <p:blipFill>
          <a:blip r:embed="rId1"/>
          <a:srcRect l="0" t="0" r="0" b="4168"/>
          <a:stretch/>
        </p:blipFill>
        <p:spPr>
          <a:xfrm>
            <a:off x="1371600" y="1752480"/>
            <a:ext cx="2435400" cy="35053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6159" descr="u=2562915084,3001863147&amp;fm=23&amp;gp=0"/>
          <p:cNvPicPr/>
          <p:nvPr/>
        </p:nvPicPr>
        <p:blipFill>
          <a:blip r:embed="rId2"/>
          <a:srcRect l="7743" t="0" r="0" b="3454"/>
          <a:stretch/>
        </p:blipFill>
        <p:spPr>
          <a:xfrm>
            <a:off x="4876920" y="2209680"/>
            <a:ext cx="272412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6160"/>
          <p:cNvSpPr/>
          <p:nvPr/>
        </p:nvSpPr>
        <p:spPr>
          <a:xfrm>
            <a:off x="5105520" y="54100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awberrie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39940" descr="u=990141426,936822398&amp;fm=23&amp;gp=0"/>
          <p:cNvPicPr/>
          <p:nvPr/>
        </p:nvPicPr>
        <p:blipFill>
          <a:blip r:embed="rId1"/>
          <a:srcRect l="0" t="0" r="0" b="4393"/>
          <a:stretch/>
        </p:blipFill>
        <p:spPr>
          <a:xfrm>
            <a:off x="609480" y="990720"/>
            <a:ext cx="5181840" cy="472428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39941"/>
          <p:cNvSpPr/>
          <p:nvPr/>
        </p:nvSpPr>
        <p:spPr>
          <a:xfrm>
            <a:off x="5943600" y="2286000"/>
            <a:ext cx="2819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’s the season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an you say something about it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40965"/>
          <p:cNvSpPr/>
          <p:nvPr/>
        </p:nvSpPr>
        <p:spPr>
          <a:xfrm>
            <a:off x="1731600" y="5398920"/>
            <a:ext cx="34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y are _______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矩形 40966"/>
          <p:cNvSpPr/>
          <p:nvPr/>
        </p:nvSpPr>
        <p:spPr>
          <a:xfrm>
            <a:off x="2972160" y="53323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ving a picnic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7" name="图片 40968" descr="u=2604673444,1713810655&amp;fm=52&amp;gp=0"/>
          <p:cNvPicPr/>
          <p:nvPr/>
        </p:nvPicPr>
        <p:blipFill>
          <a:blip r:embed="rId1"/>
          <a:stretch/>
        </p:blipFill>
        <p:spPr>
          <a:xfrm>
            <a:off x="1447920" y="1295280"/>
            <a:ext cx="6400800" cy="375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41988" descr="u=3392895001,3603679128&amp;fm=23&amp;gp=0"/>
          <p:cNvPicPr/>
          <p:nvPr/>
        </p:nvPicPr>
        <p:blipFill>
          <a:blip r:embed="rId1"/>
          <a:stretch/>
        </p:blipFill>
        <p:spPr>
          <a:xfrm>
            <a:off x="1676520" y="990720"/>
            <a:ext cx="5715000" cy="4038480"/>
          </a:xfrm>
          <a:prstGeom prst="rect">
            <a:avLst/>
          </a:prstGeom>
          <a:ln w="0">
            <a:noFill/>
          </a:ln>
        </p:spPr>
      </p:pic>
      <p:sp>
        <p:nvSpPr>
          <p:cNvPr id="99" name="矩形 41991"/>
          <p:cNvSpPr/>
          <p:nvPr/>
        </p:nvSpPr>
        <p:spPr>
          <a:xfrm>
            <a:off x="1730520" y="5388120"/>
            <a:ext cx="38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e is _____________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矩形 41992"/>
          <p:cNvSpPr/>
          <p:nvPr/>
        </p:nvSpPr>
        <p:spPr>
          <a:xfrm>
            <a:off x="2514600" y="531036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icking strawberrie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38915"/>
          <p:cNvSpPr/>
          <p:nvPr/>
        </p:nvSpPr>
        <p:spPr>
          <a:xfrm>
            <a:off x="1066680" y="10666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Listen and write T or F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矩形 38916"/>
          <p:cNvSpPr/>
          <p:nvPr/>
        </p:nvSpPr>
        <p:spPr>
          <a:xfrm>
            <a:off x="1219320" y="1828800"/>
            <a:ext cx="6858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 ) 1. It’s summer in China now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 ) 2. The temperature is cold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 ) 3. Li Ming is going to the countrysid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矩形 38917"/>
          <p:cNvSpPr/>
          <p:nvPr/>
        </p:nvSpPr>
        <p:spPr>
          <a:xfrm>
            <a:off x="1500120" y="205740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矩形 38918"/>
          <p:cNvSpPr/>
          <p:nvPr/>
        </p:nvSpPr>
        <p:spPr>
          <a:xfrm>
            <a:off x="1424160" y="2743200"/>
            <a:ext cx="10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矩形 38919"/>
          <p:cNvSpPr/>
          <p:nvPr/>
        </p:nvSpPr>
        <p:spPr>
          <a:xfrm>
            <a:off x="1447920" y="3352680"/>
            <a:ext cx="10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6" name="图片 38921" descr=""/>
          <p:cNvPicPr/>
          <p:nvPr/>
        </p:nvPicPr>
        <p:blipFill>
          <a:blip r:embed="rId1"/>
          <a:stretch/>
        </p:blipFill>
        <p:spPr>
          <a:xfrm>
            <a:off x="533520" y="4648320"/>
            <a:ext cx="8064360" cy="12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15361"/>
          <p:cNvSpPr/>
          <p:nvPr/>
        </p:nvSpPr>
        <p:spPr>
          <a:xfrm>
            <a:off x="914400" y="13716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rain and sun make all the trees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d grass green again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雨水和太阳使所有的树和草又绿了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文本框 15362"/>
          <p:cNvSpPr/>
          <p:nvPr/>
        </p:nvSpPr>
        <p:spPr>
          <a:xfrm>
            <a:off x="1219320" y="304812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ke…green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绿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k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常跟形容词作宾语补足语，也可跟动词原形或名词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work makes me tired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工作让我觉着累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boy made the baby cry again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个男孩又把那个婴儿弄哭了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0" name="图片 15370" descr="3"/>
          <p:cNvPicPr/>
          <p:nvPr/>
        </p:nvPicPr>
        <p:blipFill>
          <a:blip r:embed="rId1"/>
          <a:stretch/>
        </p:blipFill>
        <p:spPr>
          <a:xfrm>
            <a:off x="6705720" y="106668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16385"/>
          <p:cNvSpPr/>
          <p:nvPr/>
        </p:nvSpPr>
        <p:spPr>
          <a:xfrm>
            <a:off x="914400" y="914400"/>
            <a:ext cx="77724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buClr>
                <a:srgbClr val="00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t me show you spring in China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我向你展示中国的春天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文本框 16386"/>
          <p:cNvSpPr/>
          <p:nvPr/>
        </p:nvSpPr>
        <p:spPr>
          <a:xfrm>
            <a:off x="1219320" y="1990800"/>
            <a:ext cx="761976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t sb. do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某人做某事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t, make, hav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跟动词原形作宾语补足语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vid has his son stand for two hour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大卫让他的儿子站了两个小时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w sb. sth.=show sth. to sb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向某人展示某物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w your photos to me, please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请向我展示一下你的照片吧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09:01Z</dcterms:created>
  <dc:creator/>
  <dc:description/>
  <dc:language>en-US</dc:language>
  <cp:lastModifiedBy>Administrator</cp:lastModifiedBy>
  <dcterms:modified xsi:type="dcterms:W3CDTF">2019-01-02T01:16:15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